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6B512-6041-4C23-9B43-0D244E25B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90720" y="487836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F371B-E6CB-40E1-9F55-CBE63B579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46580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58E32-EC52-4373-8992-026881ECA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8356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57676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9072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8356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57676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961FA-DCED-4D8F-A902-47389ADFD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29906-6764-45F4-B9A6-A9610E75F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5A23A-3BEA-494E-9C87-B24C1198D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ABA25-2366-476C-B7F0-0A21CCBE8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F7709-8080-44C8-849F-308966D4F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FEFC1-2AA8-4BDD-81AA-C6A0823CB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990720" y="190512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4444F-F126-4841-8249-DD6F94F2F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23640-247D-4A5A-853C-B3E892B95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8235D-52F3-4BB7-A5DB-CB875F4D7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46580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DD844-F5D0-49B2-AFEC-2650063CD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D2258-E808-4EA1-AF70-667BD6AFA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990720" y="487836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57F59-1855-4711-AF56-F9A6CE1D7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46580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4EC7A-027B-4798-8577-58203A15D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8356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57676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99072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8356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57676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4601E-6D8C-4B5B-91A4-D38EB101C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FC2CC-CF1E-47B5-896E-E0D27B1A2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B4A4E-C8B2-45AD-A3C4-103B49E44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9DF38-61A1-4DFD-B9A4-94BB6802C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90720" y="190512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ACCEC-7195-4489-B32F-1194274D7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90EFD-C66B-41AF-B0F0-BDEE9CC10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46580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38B0F-B720-4319-8924-3A7BA54F0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379FE-E88E-4592-BDD4-1F40CBD6F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99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73f8b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573f8b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73371"/>
                </a:gs>
                <a:gs pos="100000">
                  <a:srgbClr val="573f8b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b5698"/>
                </a:gs>
                <a:gs pos="100000">
                  <a:srgbClr val="573f8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6b5698"/>
                </a:gs>
                <a:gs pos="100000">
                  <a:srgbClr val="573f8b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73371"/>
                </a:gs>
                <a:gs pos="100000">
                  <a:srgbClr val="573f8b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b5698"/>
                </a:gs>
                <a:gs pos="100000">
                  <a:srgbClr val="573f8b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06A70-A33F-49C7-BB75-0CD07C26366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9d9ff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99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573f8b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73f8b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73371"/>
                </a:gs>
                <a:gs pos="100000">
                  <a:srgbClr val="573f8b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73371"/>
                </a:gs>
                <a:gs pos="100000">
                  <a:srgbClr val="573f8b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b5698"/>
                </a:gs>
                <a:gs pos="100000">
                  <a:srgbClr val="573f8b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b5698"/>
                </a:gs>
                <a:gs pos="100000">
                  <a:srgbClr val="573f8b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d9d9ff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8CE26-5A98-47BD-92F6-3E9CABE0091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3ff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33ff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3ff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99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347640" y="476280"/>
            <a:ext cx="29336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d9d9ff"/>
                </a:solidFill>
                <a:latin typeface="Comic Sans MS"/>
              </a:rPr>
              <a:t>Sawl marblen?</a:t>
            </a:r>
            <a:endParaRPr b="1" lang="en-US" sz="28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539640" y="537120"/>
            <a:ext cx="82090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Mae Manon yn rhannu 100 marblen i bump bag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Mae Bag 1 a Bag 2 gyda’i gilydd yn cynnwys 52 marbl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Mae Bag 2 a Bag 3 gyda’i gilydd yn cynnwys 43 marbl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Mae Bag 3 a Bag 4 gyda’i gilydd yn cynnwys 34 marb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Mae Bag 4 a Bag 5 gyda’i gilydd yn cynnwys 30 marbl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Sawl marblen sydd ymhob bag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5999040" y="3789360"/>
            <a:ext cx="247176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5T18:02:17Z</dcterms:created>
  <dc:creator>Carwyn</dc:creator>
  <dc:description/>
  <dc:language>en-US</dc:language>
  <cp:lastModifiedBy>Carwyn</cp:lastModifiedBy>
  <dcterms:modified xsi:type="dcterms:W3CDTF">2008-12-05T18:14:00Z</dcterms:modified>
  <cp:revision>2</cp:revision>
  <dc:subject/>
  <dc:title>Sawl marblen?</dc:title>
</cp:coreProperties>
</file>